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9D43-7A3C-46BF-9696-91197518C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FEC-7748-4AF6-81EE-0DE7B69D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3B7-1676-46A9-B9E7-19DD9CE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20C-3777-4A86-9730-1EF07FAF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2522-5DB4-4C49-961A-35E79B1D6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6737-A4FF-40AF-A9AD-255CB285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86AD-21BC-4A70-9362-72D6EC17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8AEA-F5A7-474D-B382-0B1E1358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0F7-33B3-4833-9D08-ED365189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2668-091C-4686-A6C8-1F6DE355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3EC9-015A-46AC-9C7A-01053184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462-A400-4104-992E-83BC4E6F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E16B-0BCB-482E-B6B9-F0A40A2A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5A2-B26D-4531-9E6E-33F8AB0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ECCE-28E9-41C6-9E24-DBB3E46A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83E9-ED70-4E15-BD88-6EE32792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762F-9752-4DDA-8335-12051A81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389-57D1-451D-912B-F1C605B2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5CE-E208-4EA1-BFDF-2AF12539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60A5-E514-4280-A61F-672ABC3C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5BA8-703E-4971-9AB2-3FD0FF86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C086-120A-4695-88BA-15766E3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A3FE-512D-42C1-87B1-47132BFF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D07-66CA-466B-8F83-24FBABC1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AA21-89E8-43AC-9E91-395E3BC85E4C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TextBox 13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5824-FF51-4F7D-8B82-0498E55796BF}" type="slidenum">
              <a:rPr b="0" lang="ro-RO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32.xml"/><Relationship Id="rId6" Type="http://schemas.openxmlformats.org/officeDocument/2006/relationships/slide" Target="slide37.xml"/><Relationship Id="rId7" Type="http://schemas.openxmlformats.org/officeDocument/2006/relationships/slide" Target="slide37.xml"/><Relationship Id="rId8" Type="http://schemas.openxmlformats.org/officeDocument/2006/relationships/slide" Target="slide41.xml"/><Relationship Id="rId9" Type="http://schemas.openxmlformats.org/officeDocument/2006/relationships/slide" Target="slide48.xml"/><Relationship Id="rId10" Type="http://schemas.openxmlformats.org/officeDocument/2006/relationships/slide" Target="slide48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4797000"/>
            <a:ext cx="77230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Candara"/>
              </a:rPr>
              <a:t>METODA BACKTRACKING</a:t>
            </a:r>
            <a:endParaRPr b="1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360180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BACKTRACKING ITERATIV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3600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PARTEA FIX</a:t>
            </a:r>
            <a:r>
              <a:rPr b="1" lang="ro-RO" sz="2400" spc="-1" strike="noStrike">
                <a:solidFill>
                  <a:srgbClr val="ffffff"/>
                </a:solidFill>
                <a:latin typeface="Candara"/>
              </a:rPr>
              <a:t>Ă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11280" y="2307960"/>
            <a:ext cx="38304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void </a:t>
            </a:r>
            <a:r>
              <a:rPr b="1" lang="ro-RO" sz="1600" spc="-1" strike="noStrike">
                <a:solidFill>
                  <a:srgbClr val="ffc000"/>
                </a:solidFill>
                <a:latin typeface="Candara"/>
              </a:rPr>
              <a:t>bt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()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{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k=1;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Candara"/>
              </a:rPr>
              <a:t>Init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while(k&gt;0)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{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as=1; ev=0;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while(as&amp;&amp;!ev)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{ as=</a:t>
            </a:r>
            <a:r>
              <a:rPr b="1" lang="ro-RO" sz="1600" spc="-1" strike="noStrike">
                <a:solidFill>
                  <a:srgbClr val="ffc000"/>
                </a:solidFill>
                <a:latin typeface="Candara"/>
              </a:rPr>
              <a:t>succ</a:t>
            </a:r>
            <a:r>
              <a:rPr b="1" lang="en-US" sz="1600" spc="-1" strike="noStrike">
                <a:solidFill>
                  <a:srgbClr val="ffc000"/>
                </a:solidFill>
                <a:latin typeface="Candara"/>
              </a:rPr>
              <a:t>esor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if (as)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ev=</a:t>
            </a:r>
            <a:r>
              <a:rPr b="1" lang="ro-RO" sz="1600" spc="-1" strike="noStrike">
                <a:solidFill>
                  <a:srgbClr val="ffc000"/>
                </a:solidFill>
                <a:latin typeface="Candara"/>
              </a:rPr>
              <a:t>valid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();}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if(as)   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if(</a:t>
            </a:r>
            <a:r>
              <a:rPr b="1" lang="en-US" sz="1600" spc="-1" strike="noStrike">
                <a:solidFill>
                  <a:srgbClr val="ffc000"/>
                </a:solidFill>
                <a:latin typeface="Candara"/>
              </a:rPr>
              <a:t>solutie()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)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andara"/>
              </a:rPr>
              <a:t>tipar()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else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{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k=k+1;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en-US" sz="1600" spc="-1" strike="noStrike">
                <a:solidFill>
                  <a:srgbClr val="ffc000"/>
                </a:solidFill>
                <a:latin typeface="Candara"/>
              </a:rPr>
              <a:t>init()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;</a:t>
            </a:r>
            <a:r>
              <a:rPr b="0" lang="en-US" sz="1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else k=k-1;}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Candar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46320" y="1523520"/>
            <a:ext cx="35910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andara"/>
              </a:rPr>
              <a:t>PROGRAM PRINCIPAL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29240" y="2347560"/>
            <a:ext cx="3822480" cy="28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main() { cin&gt;&gt;n; </a:t>
            </a:r>
            <a:r>
              <a:rPr b="1" lang="ro-RO" sz="2000" spc="-1" strike="noStrike">
                <a:solidFill>
                  <a:srgbClr val="ffc000"/>
                </a:solidFill>
                <a:latin typeface="Candara"/>
              </a:rPr>
              <a:t>bt(); </a:t>
            </a: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468360" y="1197000"/>
            <a:ext cx="9144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6ba9da"/>
                </a:solidFill>
                <a:uFillTx/>
                <a:latin typeface="Calibri"/>
                <a:hlinkClick r:id="rId1" action="ppaction://hlinksldjump"/>
              </a:rPr>
              <a:t>Aspecte teore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6ba9da"/>
                </a:solidFill>
                <a:uFillTx/>
                <a:latin typeface="Calibri"/>
                <a:hlinkClick r:id="rId2" action="ppaction://hlinksldjump"/>
              </a:rPr>
              <a:t>Exemplu pentru înţelegerea metod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a9da"/>
                </a:solidFill>
                <a:uFillTx/>
                <a:latin typeface="Calibri"/>
                <a:hlinkClick r:id="rId3" action="ppaction://hlinksldjump"/>
              </a:rPr>
              <a:t>Permut</a:t>
            </a:r>
            <a:r>
              <a:rPr b="0" lang="ro-RO" sz="2400" spc="-1" strike="noStrike" u="sng">
                <a:solidFill>
                  <a:srgbClr val="6ba9da"/>
                </a:solidFill>
                <a:uFillTx/>
                <a:latin typeface="Calibri"/>
                <a:hlinkClick r:id="rId4" action="ppaction://hlinksldjump"/>
              </a:rPr>
              <a:t>ă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a9da"/>
                </a:solidFill>
                <a:uFillTx/>
                <a:latin typeface="Calibri"/>
                <a:hlinkClick r:id="rId5" action="ppaction://hlinksldjump"/>
              </a:rPr>
              <a:t>Aranj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a9da"/>
                </a:solidFill>
                <a:uFillTx/>
                <a:latin typeface="Calibri"/>
                <a:hlinkClick r:id="rId6" action="ppaction://hlinksldjump"/>
              </a:rPr>
              <a:t>Combin</a:t>
            </a:r>
            <a:r>
              <a:rPr b="0" lang="ro-RO" sz="2400" spc="-1" strike="noStrike" u="sng">
                <a:solidFill>
                  <a:srgbClr val="6ba9da"/>
                </a:solidFill>
                <a:uFillTx/>
                <a:latin typeface="Calibri"/>
                <a:hlinkClick r:id="rId7" action="ppaction://hlinksldjump"/>
              </a:rPr>
              <a:t>ă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a9da"/>
                </a:solidFill>
                <a:uFillTx/>
                <a:latin typeface="Calibri"/>
                <a:hlinkClick r:id="rId8" action="ppaction://hlinksldjump"/>
              </a:rPr>
              <a:t>Problema celor n d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ba9da"/>
                </a:solidFill>
                <a:uFillTx/>
                <a:latin typeface="Calibri"/>
                <a:hlinkClick r:id="rId9" action="ppaction://hlinksldjump"/>
              </a:rPr>
              <a:t>Problema color</a:t>
            </a:r>
            <a:r>
              <a:rPr b="0" lang="ro-RO" sz="2400" spc="-1" strike="noStrike" u="sng">
                <a:solidFill>
                  <a:srgbClr val="6ba9da"/>
                </a:solidFill>
                <a:uFillTx/>
                <a:latin typeface="Calibri"/>
                <a:hlinkClick r:id="rId10" action="ppaction://hlinksldjump"/>
              </a:rPr>
              <a:t>ării hărţi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blema comis voiajorul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roblema pla</a:t>
            </a:r>
            <a:r>
              <a:rPr b="0" lang="ro-RO" sz="2400" spc="-1" strike="noStrike">
                <a:solidFill>
                  <a:srgbClr val="404040"/>
                </a:solidFill>
                <a:latin typeface="Calibri"/>
              </a:rPr>
              <a:t>ţii unei sume s utilizând m tipuri de mon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acktracking recurs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ec54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ranjamente si permutari rezolvate recurs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1. </a:t>
            </a:r>
            <a:r>
              <a:rPr b="1" lang="ro-RO" sz="3400" spc="-1" strike="noStrike">
                <a:solidFill>
                  <a:srgbClr val="ffffff"/>
                </a:solidFill>
                <a:latin typeface="Candara"/>
              </a:rPr>
              <a:t>ASPECTE TEORETICE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88" name="Rectangle 3" descr=""/>
          <p:cNvPicPr/>
          <p:nvPr/>
        </p:nvPicPr>
        <p:blipFill>
          <a:blip r:embed="rId1"/>
          <a:stretch/>
        </p:blipFill>
        <p:spPr>
          <a:xfrm>
            <a:off x="189000" y="2030400"/>
            <a:ext cx="84009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O metodă simplă de a genera </a:t>
            </a:r>
            <a:r>
              <a:rPr b="1" i="1" lang="ro-RO" sz="2000" spc="-1" strike="noStrike">
                <a:solidFill>
                  <a:srgbClr val="ffffff"/>
                </a:solidFill>
                <a:latin typeface="Candara"/>
              </a:rPr>
              <a:t>soluţiile rezultat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 constă în a genera într-u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 mod oarecare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toate 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soluţiile posibile şi de a alege dintre acestea doar pe cele care verifică </a:t>
            </a:r>
            <a:r>
              <a:rPr b="1" i="1" lang="ro-RO" sz="2000" spc="-1" strike="noStrike">
                <a:solidFill>
                  <a:srgbClr val="ffffff"/>
                </a:solidFill>
                <a:latin typeface="Candara"/>
              </a:rPr>
              <a:t>condiţiile interne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. Dezavantajul constă în faptul că timpul cerut este foarte mare.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Pas1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: Se genereaza toate elemetele produsului cartezian 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S</a:t>
            </a:r>
            <a:r>
              <a:rPr b="0" lang="ro-RO" sz="20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xS</a:t>
            </a:r>
            <a:r>
              <a:rPr b="0" lang="ro-RO" sz="20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000" spc="-1" strike="noStrike">
                <a:solidFill>
                  <a:srgbClr val="ffffff"/>
                </a:solidFill>
                <a:latin typeface="Candara"/>
              </a:rPr>
              <a:t>x...S</a:t>
            </a:r>
            <a:r>
              <a:rPr b="0" lang="ro-RO" sz="2000" spc="-1" strike="noStrike" baseline="-25000">
                <a:solidFill>
                  <a:srgbClr val="ffffff"/>
                </a:solidFill>
                <a:latin typeface="Candar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Pas2:Se verifica pe rand fiecare element al produsului cartezian daca indeplineste conditiile interne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68360" y="1267920"/>
            <a:ext cx="813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 algn="just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Metoda Backtracking urmăreşte să evite generarea tuturor </a:t>
            </a:r>
            <a:r>
              <a:rPr b="1" i="1" lang="ro-RO" sz="2500" spc="-1" strike="noStrike">
                <a:solidFill>
                  <a:srgbClr val="ffffff"/>
                </a:solidFill>
                <a:latin typeface="Candara"/>
              </a:rPr>
              <a:t>soluţiilor posibile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  <a:p>
            <a:pPr marL="212400" indent="-212400" algn="just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Pentru aceasta elementele vectorului </a:t>
            </a: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primesc pe rând valori în sensul că lui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i se atribuie o valoare doar dacă componentele din faţa sa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...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-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au primit valori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  <a:p>
            <a:pPr marL="212400" indent="-212400" algn="just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Dacă lui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i s-a atribuit o valoare, nu se trece direct la atribuirea de valori lui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+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 ci se verifică nişte </a:t>
            </a:r>
            <a:r>
              <a:rPr b="1" lang="ro-RO" sz="2500" spc="-1" strike="noStrike">
                <a:solidFill>
                  <a:srgbClr val="ffffff"/>
                </a:solidFill>
                <a:latin typeface="Candara"/>
              </a:rPr>
              <a:t>condiţii de continuare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 referitoare la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...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-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 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  <a:p>
            <a:pPr marL="212400" indent="-212400" algn="just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Dacă condiţiile de continuare au fost satisfăcute, se trece la calculul lui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+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 Neîndeplinirea lor exprimă faptul că oricum s-ar alege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+1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...,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, nu se va ajunge la o </a:t>
            </a:r>
            <a:r>
              <a:rPr b="1" i="1" lang="ro-RO" sz="2500" spc="-1" strike="noStrike">
                <a:solidFill>
                  <a:srgbClr val="ffffff"/>
                </a:solidFill>
                <a:latin typeface="Candara"/>
              </a:rPr>
              <a:t>soluţie rezultat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  <a:p>
            <a:pPr marL="212400" indent="-212400" algn="just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Evident, ca în cazul neîndeplinirii condiţiilor de continuare va trebui să se facă o altă alegere pentru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 Sau dacă S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 a fost epuizat, să se micşoreze k cu o unitate, încercând să se facă o nouă alegere pentru x</a:t>
            </a:r>
            <a:r>
              <a:rPr b="0" lang="ro-RO" sz="25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Candar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598176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PERMUTARI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9280" y="1231920"/>
            <a:ext cx="864072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ndara"/>
              </a:rPr>
              <a:t>Ex1.Sa se genereze toate permutarile multimii A={1,2,3}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O permutare a unei mulţimi cu n elemente este un şir de elemente obţinut prin </a:t>
            </a:r>
            <a:r>
              <a:rPr b="1" lang="ro-RO" sz="2400" spc="-1" strike="noStrike">
                <a:solidFill>
                  <a:srgbClr val="ffffff"/>
                </a:solidFill>
                <a:latin typeface="Candara"/>
              </a:rPr>
              <a:t>schimbarea ordinii elementelor mulţimii date 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sau chiar</a:t>
            </a:r>
            <a:r>
              <a:rPr b="1" lang="ro-RO" sz="2400" spc="-1" strike="noStrike">
                <a:solidFill>
                  <a:srgbClr val="ffffff"/>
                </a:solidFill>
                <a:latin typeface="Candara"/>
              </a:rPr>
              <a:t> mulţimea însăşi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Ne gândim la generarea permutărilor atunci când se dă o mulțime cu n elemente ca date de intrare iar soluția este sub forma de vector, tot cu n elemente, ale cărui componente sunt distincte şi aparțin mulţimii date.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Candara"/>
              </a:rPr>
              <a:t>Exemplu: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 Fie A=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{1,2,3}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. Permutările mulțimii A sunt: (1,2,3), (1,3,2), (2,1,3), (2,3,1), (3,1,2), (3,2,1).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Generalizare: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Fie A={a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 a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…,a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} o mulțime cu elemente de tip întreg. Trebuie determinate elementele mulțimii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=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{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…,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 }|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A, k=1,2,...,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 pentru 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i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j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 pentru i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j}. 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Deci, x=( 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1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 x</a:t>
            </a:r>
            <a:r>
              <a:rPr b="0" lang="ro-RO" sz="2400" spc="-1" strike="noStrike" baseline="-25000">
                <a:solidFill>
                  <a:srgbClr val="ffffff"/>
                </a:solidFill>
                <a:latin typeface="Candara"/>
              </a:rPr>
              <a:t>2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,…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) unde x</a:t>
            </a:r>
            <a:r>
              <a:rPr b="0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{1,...,</a:t>
            </a:r>
            <a:r>
              <a:rPr b="0" lang="en-US" sz="2400" spc="-1" strike="noStrike">
                <a:solidFill>
                  <a:srgbClr val="ffffff"/>
                </a:solidFill>
                <a:latin typeface="Candara"/>
              </a:rPr>
              <a:t>n</a:t>
            </a:r>
            <a:r>
              <a:rPr b="0" lang="ro-RO" sz="2400" spc="-1" strike="noStrike">
                <a:solidFill>
                  <a:srgbClr val="ffffff"/>
                </a:solidFill>
                <a:latin typeface="Candara"/>
              </a:rPr>
              <a:t>}, elementele vectorului x trebuie să fie distincte.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659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ALGORITM BACKTRACKING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94" name="Substituent conținut 2" descr=""/>
          <p:cNvPicPr/>
          <p:nvPr/>
        </p:nvPicPr>
        <p:blipFill>
          <a:blip r:embed="rId1"/>
          <a:stretch/>
        </p:blipFill>
        <p:spPr>
          <a:xfrm>
            <a:off x="-60480" y="1189080"/>
            <a:ext cx="881388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Candara"/>
              </a:rPr>
              <a:t>DATE SI STRUCTURE DE DATE</a:t>
            </a:r>
            <a:endParaRPr b="1" lang="en-US" sz="3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Int s[100] – vectorul solutie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as – pentru a sti daca pentru x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mai exista succesor in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Candara"/>
              </a:rPr>
              <a:t>k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(ae val 0 sau 1)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ev – pentru a sti daca succesorul gasit respecta conditia de continuare si elemental xk poate apartine solutiei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n- dimensiunea solutiei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K- indicele vectorului solutie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44546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ndara"/>
              </a:rPr>
              <a:t>SUBPROGRAME</a:t>
            </a:r>
            <a:endParaRPr b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83960" y="776160"/>
            <a:ext cx="8351640" cy="567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void </a:t>
            </a:r>
            <a:r>
              <a:rPr b="0" lang="en-US" sz="2000" spc="-1" strike="noStrike">
                <a:solidFill>
                  <a:srgbClr val="ffc000"/>
                </a:solidFill>
                <a:latin typeface="Candara"/>
              </a:rPr>
              <a:t>init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() { s[k]=0; }   // 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</a:rPr>
              <a:t>initializeaza elementul ce urmeaza a fi introdus in solutie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int </a:t>
            </a:r>
            <a:r>
              <a:rPr b="0" lang="en-US" sz="2000" spc="-1" strike="noStrike">
                <a:solidFill>
                  <a:srgbClr val="ffc000"/>
                </a:solidFill>
                <a:latin typeface="Candara"/>
              </a:rPr>
              <a:t>successor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()  // 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</a:rPr>
              <a:t>verifica daca mai exista un element pentru nivelul k din ak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{  if(s[k]&lt;n) {s[k]++; return 1;}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else return 0;}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int </a:t>
            </a:r>
            <a:r>
              <a:rPr b="0" lang="en-US" sz="2000" spc="-1" strike="noStrike">
                <a:solidFill>
                  <a:srgbClr val="ffc000"/>
                </a:solidFill>
                <a:latin typeface="Candara"/>
              </a:rPr>
              <a:t>valid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() //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</a:rPr>
              <a:t>verifica daca sk verifica conditiile interne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{ for( int i=1;i&lt;k;i++)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if(s[i]==s[k]) return 0;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return 1;}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int </a:t>
            </a:r>
            <a:r>
              <a:rPr b="0" lang="en-US" sz="2000" spc="-1" strike="noStrike">
                <a:solidFill>
                  <a:srgbClr val="ffc000"/>
                </a:solidFill>
                <a:latin typeface="Candara"/>
              </a:rPr>
              <a:t>solutie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()  {return k==n;}   //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</a:rPr>
              <a:t>verifica daca s-au obtinut toate solutiile problemei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void </a:t>
            </a:r>
            <a:r>
              <a:rPr b="0" lang="en-US" sz="2000" spc="-1" strike="noStrike">
                <a:solidFill>
                  <a:srgbClr val="ffc000"/>
                </a:solidFill>
                <a:latin typeface="Candara"/>
              </a:rPr>
              <a:t>tipar</a:t>
            </a: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() //</a:t>
            </a:r>
            <a:r>
              <a:rPr b="0" lang="en-US" sz="1400" spc="-1" strike="noStrike">
                <a:solidFill>
                  <a:srgbClr val="ff0000"/>
                </a:solidFill>
                <a:latin typeface="Candara"/>
              </a:rPr>
              <a:t>afiseaza solutia</a:t>
            </a:r>
            <a:endParaRPr b="0" lang="en-US" sz="14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{  for( int i=1;i&lt;=n;i++) cout&lt;&lt;s[i]&lt;&lt; “  “; cout&lt;&lt;endl;}</a:t>
            </a: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4:29:02Z</dcterms:created>
  <dc:creator>Cristina</dc:creator>
  <dc:description/>
  <dc:language>en-US</dc:language>
  <cp:lastModifiedBy>Iulia</cp:lastModifiedBy>
  <dcterms:modified xsi:type="dcterms:W3CDTF">2016-03-23T22:39:49Z</dcterms:modified>
  <cp:revision>143</cp:revision>
  <dc:subject/>
  <dc:title>Metoda Backtracking</dc:title>
</cp:coreProperties>
</file>